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4707-FE4C-4B4C-BD3A-A4AA411A1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ECAB-1028-43F9-BA2F-63896A041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6EF8-17B4-48A3-9E76-9C7D94447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8103-01C1-46EF-96D6-00F5077B9F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AB08-D1DC-432A-BBC2-367B9DFB8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8449-299F-4827-8A2E-39AE6337E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7525-3036-4014-86F5-7BBD51A0E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AD85-0EB3-4BAA-BC23-DC7C0566B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F87F-0698-4576-898D-4D68F18F8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E48E-D075-4CC9-B6C9-FA8DA891B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7D21-710B-4254-97AC-BD767759F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8444-46FF-4BD0-9566-F19442919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2D5-11F1-4CB1-A9D8-2DFCFBF11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735-D492-48FE-A506-7CF425156D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8F4-C6F2-4F4F-924A-2D534E3AAE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483-2064-48FB-8EC9-37C55D78F5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9219-2211-4553-A813-817C1F8433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kinds of misconceptions do you think  secondary students might have in response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477-3087-4E0A-8772-5169606398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30E-68A8-45EB-9697-A0779B8727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C08-9234-4D63-95F8-DA67ABAE1E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EAA-0788-4C1D-998E-EEA0F31600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8D4-1F00-4FD9-90DF-1C32AC95C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8ED-1C62-40E8-8B43-01B7C7A3BC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5A61-477E-4D8A-B0F6-EFDE07F7EF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715B-C656-4F4A-9DF7-36AC5FC026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E6D6-C82C-4EE0-B3CF-47E44B779C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6B3F-28E2-48EE-8397-E392884B3B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582-A000-49C4-8171-6F98194719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given fraction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one or two problems from gr7-12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BE7-3519-42D3-98E1-A2D6079D44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t out and 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D55-CF95-4552-9BF2-713BF3877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69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DE3-5691-4714-99D0-C694080228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Relating Situations to Frac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5B8-83A3-435B-9D73-AB3E405122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David Petro</cp:lastModifiedBy>
  <dcterms:modified xsi:type="dcterms:W3CDTF">2012-08-20T21:25:02Z</dcterms:modified>
  <cp:revision>35</cp:revision>
  <dc:subject/>
  <dc:title>&lt;Title&gt;</dc:title>
</cp:coreProperties>
</file>